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C8E4-A20D-4779-8993-57ACBB016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D35D-6B5E-4560-8743-E7F4B7EF1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44AD-33AF-449F-85F1-520AB1D77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52CE-C08D-4D49-8AD5-015E56C72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9F5F-36B7-47A7-893F-A69F50178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E04F-E87B-40F2-B3AF-B6C090101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4D2E-77E7-4DC2-9B85-ADF817FDB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C5FC-9018-47F1-9F9A-2E95A473F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FC86-0201-4D22-A60D-0A2129682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2C08-BC2F-470A-9A91-433E3BABA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81D7-0BA4-4376-93D5-27663C8F2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0D45-5318-455D-8F1C-8D2E93ED5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3699D-30C2-4290-9E1B-E6494989D73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857160" y="272880"/>
            <a:ext cx="7429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EXERCISES FOR MODULE FIFTE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alphaomega.jpg"/>
          <p:cNvPicPr/>
          <p:nvPr/>
        </p:nvPicPr>
        <p:blipFill>
          <a:blip r:embed="rId2"/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Exercises 1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3908160" y="1243080"/>
            <a:ext cx="126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ction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1280" y="1666800"/>
            <a:ext cx="9144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ι ἠρξατο διδασκειν αὐτους ὁτι δει παθειν πολλα και διωχθηναι ὑπο των πρεσβυτερων και των ἀρχιερεων και των γραμματεων και ἀποκτανθηνα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νυν ἡ κρισις ἐστιν του κοσμου τουτου, νυν ὁ ἀρχων του κοσμου τουτου ἐκβληθησεται ἐξω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δε Ἰησους εἰπεν αὐτοις∙ Το ποτηριον ὃ ἐγω πινω πιεσθε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=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irregular future of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ινω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ι το βαπτισμα ὃ ἐγω βαπτιζομαι βαπτισθησεσθ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μακαριοι οἱ ἐλεημονε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λεημων =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merciful; declines like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λειω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τι αὐτοι ἐλεηθησοντα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μακαριοι οἱ εἰρηνοποιοι [= εἰρηνη + ποιεω], ὁτι αὐτοι υἱοι θεου κληθησοντα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ι ἀποκριθεις αὐτοις λεγει∙ Τίς ἐστιν ἡ μητηρ μου και οἱ ἀδελφοι μου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;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Exercises 2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71280" y="1285920"/>
            <a:ext cx="9144000" cy="36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ι ἀπεκριθη αὐτῳ εἱς ἐκ του ὀχλου∙ Διδασκαλε, ἠνεγκα τον υἱον μου προς σε, ἐχοντα πνευμα πονηρ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ἠρξαντο λυπεισθαι και λεγειν αὐτῳ εἱς κατα (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by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)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ἱς∙ Μητι ἐγω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they were filled with great awe [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lit. ‘they feared a great fear’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] and said to one another, ‘Who then is this?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having entered he said to them, ‘Why are you afraid and weep? The child has not died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e was afraid and answered the chief priest, ‘They returned to the sanctuary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the husband not having faith is made holy through [use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ν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]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is wife, and the wife not having faith is made holy through her husban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6"/>
          <p:cNvSpPr/>
          <p:nvPr/>
        </p:nvSpPr>
        <p:spPr>
          <a:xfrm>
            <a:off x="6867360" y="6278400"/>
            <a:ext cx="2003760" cy="36540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Exercises 3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3915360" y="1243080"/>
            <a:ext cx="126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ction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71280" y="166680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φανη ἀνηρ τις ἐκ της πολεως ἐχων δαιμονια και πολυν χρονον  οὐκ ἐνεδυσατο ἱματιον και ἐν οἰκιᾳ οὐκ ἐμενε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Ἰδων δε ὁ Ἰησους ὀχλον περι αὐτον ἐκελευσεν τους μαθητας ἀπελθειν εἰς το περα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δε Ἰησους εἰπεν∙ Μη κωλυετε αὐτον. οὐδεις γαρ ἐστιν ὁς ποιησει δυναμιν ἐπι τῳ ὀνοματι μου και λαλησει κακως περι ἐμ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πεκριθη αὐτῳ ὁ ἀσθενων∙ Κυριε, ὑπηρετην οὐκ ἐχω βαλειν με εἰς το ὑδωρ∙ ὁτε εἰς αὐτο ἐρχομαι ἐγω, ἀλλος προ ἐμου καταβαινε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βουλομεθα οὐν γνωναι τίνα ταυτα ἐστι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Αὐτος γαρ ὁ Ἡρῳδης ἀποστειλας ἐκρατησεν τον Ἰωαννην και ἐδησεν αὐτον ἐν φυαλκῃ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prison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δια την γυναικα του ἀδελφου αὐτου, ὁτι αὐτην ἐγαμησε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Exercises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4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"/>
          <p:cNvSpPr/>
          <p:nvPr/>
        </p:nvSpPr>
        <p:spPr>
          <a:xfrm>
            <a:off x="71280" y="1285920"/>
            <a:ext cx="871560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ι ἐφαγον τον καρπον παντες, και ἠρθη το περισσευσα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ἡ γαρ ἀγαπη του θεου ἐκχειται ἐν ταις καρδιαις ἡμων δια πνευματος ἁγιου του λαμβανομενου ὑφ’ ἡμω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en the time of harvest 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lit. ‘time of the fruits’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] came, he sent his slaves to receive the produce 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e fruit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] which was h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hilip said, ‘We were hindered by the devil but after a long time we finished the sanctuary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he sent one of his disciples, saying to him, ‘Go into the city, and a man carrying a cup of water will serve you.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I make known to you, brothers and sisters, that the good news which was proclaimed by me is not according to a human be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Exercises 5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455760" y="1557360"/>
            <a:ext cx="8215200" cy="36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ction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tthew 11.2-5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δὲ Ἰωάννης ἀκούσας ἐν τῷ δεσμωτηρίῳ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prison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ὰ ἔργα τοῦ Χριστοῦ πέμψας διὰ τῶν μαθητῶν αὐτοῦ </a:t>
            </a:r>
            <a:r>
              <a:rPr b="0" lang="el-GR" sz="2400" spc="-1" strike="noStrike" baseline="30000">
                <a:solidFill>
                  <a:srgbClr val="ffffff"/>
                </a:solidFill>
                <a:latin typeface="Gentium"/>
              </a:rPr>
              <a:t>3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εἶπεν αὐτῷ, Σὺ εἶ ὁ ἐρχόμενος ἢ ἕτερον προσδοκῶμεν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we should wait for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; </a:t>
            </a:r>
            <a:r>
              <a:rPr b="0" lang="el-GR" sz="2400" spc="-1" strike="noStrike" baseline="30000">
                <a:solidFill>
                  <a:srgbClr val="ffffff"/>
                </a:solidFill>
                <a:latin typeface="Gentium"/>
              </a:rPr>
              <a:t>4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καὶ ἀποκριθεὶς ὁ Ἰησοῦς εἶπεν αὐτοῖς∙ Πορευθέντες ἀπαγγείλατε Ἰωάννῃ ἃ ἀκούετε καὶ βλέπετε∙ </a:t>
            </a:r>
            <a:r>
              <a:rPr b="0" lang="el-GR" sz="2400" spc="-1" strike="noStrike" baseline="30000">
                <a:solidFill>
                  <a:srgbClr val="ffffff"/>
                </a:solidFill>
                <a:latin typeface="Gentium"/>
              </a:rPr>
              <a:t>5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τυφλοὶ ἀναβλέπουσιν καὶ χωροὶ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lame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εριπατοῦσιν, λεπροὶ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lepers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θαρίζονται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θαριζω =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cleanse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ὶ κωφοὶ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deaf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κούουσιν, καὶ νεκροὶ ἐγείρονται καὶ πτωχοὶ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poor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ὐαγγελίζοντα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30T21:15:13Z</dcterms:created>
  <dc:creator>Sarah</dc:creator>
  <dc:description/>
  <dc:language>en-US</dc:language>
  <cp:lastModifiedBy>Sarah</cp:lastModifiedBy>
  <dcterms:modified xsi:type="dcterms:W3CDTF">2009-03-02T18:40:54Z</dcterms:modified>
  <cp:revision>23</cp:revision>
  <dc:subject/>
  <dc:title>Slide 1</dc:title>
</cp:coreProperties>
</file>